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93E-A75B-499F-99C9-DE4FED9D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4F1-0B71-400C-AFC1-D60417DA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908F-7B43-4AFB-80C4-632445B6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8FA-4FFF-422F-A279-FFDC5351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884-7385-4320-A314-FFFA2A3D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D55-C16A-450F-81A6-19DF37F2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08A-07A5-4C27-A463-D5B0E419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52D-C370-4923-8149-EB0E0845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DD5-6E3A-4E17-8E12-25540BE7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14E-A44C-4DFF-8E25-3DC31424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D44-0879-4EF4-98DE-6EAAD2B1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A43-9D83-4BED-8B6D-11B1C6CC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B241-B410-400F-A04E-0A35ABBB00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epresentation 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arning Objectiv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vise key terms and concepts related to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Timed Prac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ction B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ntemporary Media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ction B of the Critical Perspectives exam is based on the set topic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dia and Collective Ident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ill be studying a range of texts, theories and debates whilst focussing on several in class case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 will also be asked to conduct some individual research on your own case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reas of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651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xam board ask each student to consider a set of prompt questions for each topic, which they will be expected to respond to in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Media and Collective Identity topic these are the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do contemporary media represent collective nations/regions in different w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does contemporary representations compare to previous time peri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are the social implications of different represent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 what extent is human identity increasingly ‘mediated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will be working our way through these questions over the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In the media representations are often thought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as ‘re-presentations’ of a particular social grou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They are seen by some media theorists  as ‘so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constructions’, presented to us by the media 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the truth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During A2 Media we will hope to gain a deep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understanding of representational issues and the</a:t>
            </a: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‘fluid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of representation’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sic application of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Watch the opening of </a:t>
            </a: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‘Mean Girls’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 and consider the representation of the following demographic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Ge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Ethnic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Cla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Sexual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Consider some of the key terms from the test and make no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ask: from your notes you will 30 minutes to answe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ollowing ques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How is the issue of representation approached in the open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Mean Girls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3:07:06Z</dcterms:created>
  <dc:creator>gokul</dc:creator>
  <dc:description/>
  <dc:language>en-US</dc:language>
  <cp:lastModifiedBy>martinaos</cp:lastModifiedBy>
  <dcterms:modified xsi:type="dcterms:W3CDTF">2010-09-09T07:01:57Z</dcterms:modified>
  <cp:revision>18</cp:revision>
  <dc:subject/>
  <dc:title>Representation In Soap Opera</dc:title>
</cp:coreProperties>
</file>